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280525" cy="6994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80800" cy="69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ed Instruction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56000" y="0"/>
            <a:ext cx="40208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90440" y="523440"/>
            <a:ext cx="3497400" cy="26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8800" y="3320640"/>
            <a:ext cx="7423200" cy="314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McCarthy: mccartj@resa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256000" y="6642000"/>
            <a:ext cx="40208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9977D4-E2CB-4670-BBE1-2260C94C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4021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ed Instruction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McCarthy: mccartj@resa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256360" y="6642000"/>
            <a:ext cx="4020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22D7F6-8A39-4E3B-8B5C-6BB1BD49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890800" y="52380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28800" y="3320640"/>
            <a:ext cx="7423200" cy="31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5F2-3EDE-45F9-9409-4C7CFA5A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90B-BE89-4FA9-BDF8-BF6E4F6E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507-0824-4FDF-8EB2-5814A54E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489-B2FA-4A03-B972-2D87681A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1C3-762A-4BA0-B0BD-DB33A12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31C-2FD7-4869-96A4-DC4E0DB1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83E-E1BD-4034-A26D-665955F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26-3DF3-47A4-896A-BB1CEA25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683-3F83-4D41-BD38-1AFE13DF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A3F-F12A-4AE0-8F66-C5056C1E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FAC-B128-4ABF-8FF0-C293582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A9B-C74C-48CA-A147-ACA8363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453-DB13-43F5-B328-4F4E4565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uzzy%206%20legged%20starfish"/>
          <p:cNvPicPr/>
          <p:nvPr/>
        </p:nvPicPr>
        <p:blipFill>
          <a:blip r:embed="rId2"/>
          <a:stretch/>
        </p:blipFill>
        <p:spPr>
          <a:xfrm>
            <a:off x="8686800" y="0"/>
            <a:ext cx="45720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228600" y="838080"/>
            <a:ext cx="8763120" cy="5410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Profile 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867280" y="990720"/>
            <a:ext cx="3200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berg/Gar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124080" y="274320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, Hobbies,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56272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h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04920" y="3809880"/>
            <a:ext cx="2971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Su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Sc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52280" y="6324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udent’s name on back of the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326520" y="57150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ww.protopage.com/assessment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58:06Z</dcterms:created>
  <dc:creator>John McCarthy</dc:creator>
  <dc:description/>
  <dc:language>en-US</dc:language>
  <cp:lastModifiedBy>JMcCarthy</cp:lastModifiedBy>
  <dcterms:modified xsi:type="dcterms:W3CDTF">2010-12-13T01:37:52Z</dcterms:modified>
  <cp:revision>677</cp:revision>
  <dc:subject/>
  <dc:title>Slide 1</dc:title>
</cp:coreProperties>
</file>